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3728-4B4A-4129-A55A-E2673267D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03E2-AC27-4C25-8B85-2DE678192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954C-2907-4119-88D9-A6BE2CBD5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7AA8-705B-4D5B-977B-A1771E5868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37BF-4C61-40E9-BB11-0DBA327AF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0638-B92F-41A9-8E5A-AA250D4B2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A5E8-2B01-4FA8-A959-A1E7A6689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BD38-C336-4DD6-852E-9B6CE2BE0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C712-2E72-4D25-A5EE-E7A45FC85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8FC4-EBB3-4289-8138-8A6BCCCCD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D61C-7478-410C-BEA1-037371890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7B1D-4360-441F-AEEA-438AB40F4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A9C8-8808-4651-884D-5E3CC91644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s.org/wgbh/misunderstoodminds/experiences/mathexp2a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DD64-09E6-41E9-8426-B126CBCFB5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 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95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les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42A7-0863-48AE-8393-51339F5994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6AD1-078F-4854-ACC9-B6F29E5065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B414-A36D-40C2-AF78-5F34860A65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“foldables”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4BE2-4C3B-4E15-A81A-E5524C0DD8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5F5F-88ED-4D11-9057-FC7E494384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7622-37D4-47F4-881E-1ADB31444C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C259-F84B-4F86-9857-030BFB5C0D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128A-F2AD-4B95-B2E4-A3F75531D6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EB3-2F39-4CA6-991F-2010F9EC15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0A5A-77A3-4276-95A6-AB89DD2B8B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Simul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2545-C7DD-4481-9995-A7A814E639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B7AC-60BC-4168-8763-7840B3A3F5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33520" y="129528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scalcul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rm referring to a wide range of life-long learning disabilities involving math. There is no one single form of this math disability, but usually it incorporates one or more of following areas of difficul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Spati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 Difficu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4BF-5370-48FD-A553-2F977BBEE4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07BC-AAAC-4F78-8D5D-2BB95ACF1E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AC22-ACA7-4025-B812-2198C76454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189080" y="34290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4"/>
          <a:stretch/>
        </p:blipFill>
        <p:spPr>
          <a:xfrm>
            <a:off x="6095880" y="2895480"/>
            <a:ext cx="16002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6E0F-6D2D-4771-976F-7ECEB19B74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4622760" y="2819520"/>
            <a:ext cx="4368960" cy="32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533520" y="380880"/>
            <a:ext cx="472896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40179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02D8-72D7-442B-8A3E-C25ECCC3B3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3701-F1E2-4CFE-919B-9976E4876F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895-BE00-4941-AF05-A385E952A3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2184-F526-4E83-8A69-176C607717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AB8A-82D3-4D18-A02C-D65440166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457200" y="1349280"/>
            <a:ext cx="50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each other’s fold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895480" y="480060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523880" y="51814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F3EC-8B76-48AF-BA26-46C591FD91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861160" cy="2666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279396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tput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D090-5A0D-4493-A44E-C8E798C066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86116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sual Difficul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809-A7A6-4396-AF63-3C3AD3AC11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CFD-1F69-40DF-9FE3-05FAE1458E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6555-E353-4BC6-96F8-2FA9A725E2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1720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30056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04920" y="41911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se situations relate to your math c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5105520" y="1219320"/>
            <a:ext cx="32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ading Comprehension – vocab. In and out of context (5 min. 11 se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eft Arrow 7"/>
          <p:cNvSpPr/>
          <p:nvPr/>
        </p:nvSpPr>
        <p:spPr>
          <a:xfrm>
            <a:off x="4800600" y="1295280"/>
            <a:ext cx="228600" cy="15264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181480" y="16765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ading and Decoding – p b d q (7 min. 55 se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own Arrow 9"/>
          <p:cNvSpPr/>
          <p:nvPr/>
        </p:nvSpPr>
        <p:spPr>
          <a:xfrm>
            <a:off x="5791320" y="1981080"/>
            <a:ext cx="152280" cy="228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2209680" y="62150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F.A.T. City Workshops (Frustration, Anxiety, Tension), Rick Lavoie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mall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5 cognitive processes is low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FBA5-48C7-4B60-A035-890B46551D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8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1000"/>
          </a:bodyPr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it again with the 5 cognitive processes in mind and suggest modifications to better meet needs of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63A-5897-4050-8780-4552AC33F5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19T17:11:47Z</dcterms:modified>
  <cp:revision>40</cp:revision>
  <dc:subject/>
  <dc:title>&lt;Title&gt;</dc:title>
</cp:coreProperties>
</file>